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14.png" ContentType="image/png"/>
  <Override PartName="/ppt/media/image15.jpeg" ContentType="image/jpeg"/>
  <Override PartName="/ppt/media/image13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media/image8.png" ContentType="image/png"/>
  <Override PartName="/ppt/media/image4.png" ContentType="image/png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334-A4AA-4A10-B3E8-199818C72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1C8B-5552-42A1-BDCE-F1D9E157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46B9-D778-4847-A9A5-57B93302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C5B0-A920-43B8-A147-99353D54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BAA2-41D7-4CBE-ACED-7371E8F8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8F36-A41E-4492-90E6-90F5FC15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BD230-7F38-425B-B71A-256DC434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CE65-E0E6-4509-99E6-BCC22C61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E0A4-5FC3-47EF-9FB7-2C1F8F6F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C143-DBA3-4CD4-AB70-FF06FF4F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2A5A-AD9D-4329-8EF2-DB4EDFD5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F239-DC4B-410D-9FC2-093213A2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EFCD-17ED-408A-B9FE-FA807A38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D592-8734-4991-88BA-80053399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35767-6398-4914-8415-E4C8A7AA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04F1-0997-4E40-A958-F1988C84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4EE0-5439-4E46-910F-194CA38E5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FBBE-E7CD-4ED1-823A-6CAD2206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4A92-D681-419E-857F-20022A3F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C79-28F6-414B-A9CB-70E28629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FDC-47D0-4E15-8FB5-03FB15A7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8C6-5210-4F14-8085-B67D201C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9DD-1FDF-4F8B-BD87-186CB991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69A-9F7B-478F-B695-D3829D3D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233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7805-7EDE-460E-B33D-6B97A73339C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2" name="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90640" y="6310440"/>
            <a:ext cx="1228680" cy="380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78120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447920" y="6416640"/>
            <a:ext cx="556920" cy="34776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396720" y="549000"/>
            <a:ext cx="882720" cy="882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60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B724-0274-49D1-8F30-F8C20CDCEFF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457200" y="2057400"/>
            <a:ext cx="8305920" cy="380880"/>
            <a:chOff x="457200" y="2057400"/>
            <a:chExt cx="8305920" cy="380880"/>
          </a:xfrm>
        </p:grpSpPr>
        <p:sp>
          <p:nvSpPr>
            <p:cNvPr id="72" name=""/>
            <p:cNvSpPr/>
            <p:nvPr/>
          </p:nvSpPr>
          <p:spPr>
            <a:xfrm>
              <a:off x="685800" y="22860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20574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file:///tmp/home/.config/libreoffice/4/user/gallery/CAMERA.WAV" TargetMode="External"/><Relationship Id="rId3" Type="http://schemas.microsoft.com/office/2007/relationships/media" Target="file:///tmp/home/.config/libreoffice/4/user/gallery/CAMERA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828800" y="914400"/>
            <a:ext cx="5486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107932" dir="18900000" blurRad="0" rotWithShape="0">
                    <a:srgbClr val="808080"/>
                  </a:outerShdw>
                </a:effectLst>
                <a:latin typeface="隶书"/>
              </a:rPr>
              <a:t>珍惜时间  珍惜青春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107932" dir="18900000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3" name=""/>
          <p:cNvSpPr txBox="1"/>
          <p:nvPr/>
        </p:nvSpPr>
        <p:spPr>
          <a:xfrm rot="5400000">
            <a:off x="-957240" y="377676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cap="sq"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珍惜时间　珍惜青春</a:t>
            </a:r>
            <a:endParaRPr b="1" i="1" lang="en-US" sz="2400" spc="1" strike="noStrike">
              <a:ln cap="sq"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5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41667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珍惜时间  勤奋学习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2680" y="205740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434340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54100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523880" y="220968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前人榜样，惜取少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95280" y="3276720"/>
            <a:ext cx="6400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ff9933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宋体"/>
              </a:rPr>
              <a:t>古人孙敬悬梁苦读的故事</a:t>
            </a:r>
            <a:endParaRPr b="0" lang="en-US" sz="2400" spc="1" strike="noStrike">
              <a:ln w="0">
                <a:noFill/>
              </a:ln>
              <a:solidFill>
                <a:srgbClr val="ff9933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828800"/>
            <a:ext cx="8229600" cy="3809880"/>
          </a:xfrm>
          <a:prstGeom prst="ellipse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做时间的主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8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144000" cy="6800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553080" y="412920"/>
            <a:ext cx="2133720" cy="8744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952880" y="0"/>
            <a:ext cx="3733920" cy="2362320"/>
          </a:xfrm>
          <a:prstGeom prst="cloudCallout">
            <a:avLst>
              <a:gd name="adj1" fmla="val -64541"/>
              <a:gd name="adj2" fmla="val 20699"/>
            </a:avLst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你平时有没有浪费时间的现象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0"/>
            <a:ext cx="3733920" cy="2362320"/>
          </a:xfrm>
          <a:prstGeom prst="cloudCallout">
            <a:avLst>
              <a:gd name="adj1" fmla="val -64666"/>
              <a:gd name="adj2" fmla="val 20495"/>
            </a:avLst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怎样才能做时间的主人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珍惜时间  勤奋学习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2680" y="205740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434340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914400" y="54100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04156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28195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做时间的主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2133720"/>
            <a:ext cx="5410080" cy="1752480"/>
          </a:xfrm>
          <a:prstGeom prst="ellipse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做时间的主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3886200"/>
            <a:ext cx="409680" cy="609480"/>
          </a:xfrm>
          <a:prstGeom prst="downArrow">
            <a:avLst>
              <a:gd name="adj1" fmla="val 50000"/>
              <a:gd name="adj2" fmla="val 37192"/>
            </a:avLst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81280" y="4495680"/>
            <a:ext cx="2438640" cy="5814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充分利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忙碌的小西：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2057400"/>
            <a:ext cx="86868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西每天早上上学几乎都要迟到，因为他   起来后要做很多事情。事情如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刷牙、洗脸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钟；    烧开水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钟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整理书包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钟；      吃饭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钟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听英语磁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钟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共要花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0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19440" y="5222880"/>
            <a:ext cx="1460520" cy="82548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思考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小西这样安排合理吗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你认为该如何安排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75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珍惜时间  勤奋学习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2680" y="205740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434340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14400" y="54100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04156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28195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做时间的主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2133720"/>
            <a:ext cx="5410080" cy="1752480"/>
          </a:xfrm>
          <a:prstGeom prst="ellipse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做时间的主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95680" y="3886200"/>
            <a:ext cx="409680" cy="609480"/>
          </a:xfrm>
          <a:prstGeom prst="downArrow">
            <a:avLst>
              <a:gd name="adj1" fmla="val 50000"/>
              <a:gd name="adj2" fmla="val 37192"/>
            </a:avLst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81280" y="4495680"/>
            <a:ext cx="2438640" cy="5814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科学安排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烦恼的小东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905120"/>
            <a:ext cx="8534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小东近日非常烦恼，因为他这次期中考试，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门功课大红灯笼高高挂。尤其是英语，单词老记不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每天晚上，做功课时，碰到难题，小东就留着第二天再说。单词记不住也是如此。现在，面对成绩单，他很烦恼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18880" y="5430960"/>
            <a:ext cx="4204080" cy="4597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思考：是什么原因使小东烦恼？以后他该怎么做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75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珍惜时间  勤奋学习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2680" y="205740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429000" y="434340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14400" y="54100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204156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81952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</a:rPr>
              <a:t>做时间的主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2133720"/>
            <a:ext cx="5410080" cy="1752480"/>
          </a:xfrm>
          <a:prstGeom prst="ellipse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做时间的主人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3886200"/>
            <a:ext cx="409680" cy="609480"/>
          </a:xfrm>
          <a:prstGeom prst="downArrow">
            <a:avLst>
              <a:gd name="adj1" fmla="val 50000"/>
              <a:gd name="adj2" fmla="val 37192"/>
            </a:avLst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4495680"/>
            <a:ext cx="2438640" cy="5814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抓住今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念一念：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72720" y="2311560"/>
            <a:ext cx="3985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少年易老学难成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一寸光阴不可轻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未觉池塘春草梦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阶前梧叶已秋声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          ——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朱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329600" y="0"/>
            <a:ext cx="1328760" cy="137160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6" dur="7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谈一谈：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95280" y="2895480"/>
            <a:ext cx="61722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请大家谈谈今天这节课的体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219320" cy="135252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584360" y="2631960"/>
            <a:ext cx="595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你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制订了每天的作息时间表了吗？你科学安排一天的学习和休息时间了吗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扪心自问：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086600" y="76320"/>
            <a:ext cx="1447920" cy="144756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0" dur="3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美文欣赏：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18800" y="1905120"/>
            <a:ext cx="5642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去的尽管去了，来的尽管来着；去来的中间，又怎样地匆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呢？早上我起来的时候，小屋里射进两三方斜斜的太阳。太阳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有脚啊，轻轻悄悄地挪移了；我也茫茫然跟着旋转。于是——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手的时候，日子从水盆里过去；吃饭的时候，日子从饭碗里过去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默默时，便从凝然的双眼前过去。我觉察他去的匆匆了，伸出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遮挽时，他又从遮挽着的手边过去，天黑时，我躺在床上，他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伶伶俐俐地从我身上跨过，从我脚边飞去了。等我睁开眼和太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再见，这算又溜走了一日。我掩面叹息。但是新来的日子的影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又开始在叹息里闪过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朱自清《匆匆》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144000" cy="6858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4748760" y="4240080"/>
            <a:ext cx="3362760" cy="1312920"/>
          </a:xfrm>
          <a:prstGeom prst="rect">
            <a:avLst/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华文行楷"/>
                <a:ea typeface="华文行楷"/>
              </a:rPr>
              <a:t>3166</a:t>
            </a:r>
            <a:r>
              <a:rPr b="0" lang="zh-CN" sz="8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！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228600" y="-609480"/>
            <a:ext cx="9753480" cy="7467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8077320" y="0"/>
            <a:ext cx="1447560" cy="1206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0" y="0"/>
            <a:ext cx="3809880" cy="2057400"/>
          </a:xfrm>
          <a:prstGeom prst="wedgeEllipseCallout">
            <a:avLst>
              <a:gd name="adj1" fmla="val -62125"/>
              <a:gd name="adj2" fmla="val 28319"/>
            </a:avLst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读完这篇文章你有什么感想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0"/>
            <a:ext cx="3809880" cy="2057400"/>
          </a:xfrm>
          <a:prstGeom prst="wedgeEllipseCallout">
            <a:avLst>
              <a:gd name="adj1" fmla="val -59875"/>
              <a:gd name="adj2" fmla="val 27393"/>
            </a:avLst>
          </a:pr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你还知道其他有关时间的名言吗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珍惜时间  勤奋学习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14400" y="5486400"/>
            <a:ext cx="990720" cy="838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2670120" cy="3468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267080" y="2438280"/>
            <a:ext cx="4114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时间一去不复返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43400" y="-360"/>
            <a:ext cx="3200400" cy="12193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想一想：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59120" y="1676520"/>
            <a:ext cx="511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无事则静坐，一日为两日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若活七十岁，已是百四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               ——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苏东坡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3581280"/>
            <a:ext cx="17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70=14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6040" y="4419720"/>
            <a:ext cx="69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无事则静卧，卧起日将午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若活七十岁，只算三十五。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6720" y="5638680"/>
            <a:ext cx="15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70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2" name="CAMERA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珍惜时间  勤奋学习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5053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间象海绵里的水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要挤总还是有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14400" y="5410080"/>
            <a:ext cx="990720" cy="838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3200400" cy="3494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914400" y="1676520"/>
            <a:ext cx="220968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有弹性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  <p:sndAc>
      <p:stSnd>
        <p:snd r:embed="rId5" name="CAMERA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2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看一看：神奇一秒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2057400"/>
            <a:ext cx="83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一秒，美国的柯达和史宾公司合作研制成功的摄影机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拍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0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张照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一秒，世界上第一架飞机飞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.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米，导弹飞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千米，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国的航天飞机“挑战者”号飞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千米，未来的核动力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机飞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千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一秒，世界上第一台电子计算机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46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年）运算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0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次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第四代电子集成计算机达到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亿次，集成光路电脑达百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至千亿次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202360"/>
            <a:ext cx="5791320" cy="6426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一秒钟产生非常神奇的效应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名言赏析：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8480" y="2133720"/>
            <a:ext cx="8027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时间就是生命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时间就是速度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，时间就是力量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——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郭沫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69320" y="3909960"/>
            <a:ext cx="4087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明日复明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明日何其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生待明日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万事成蹉跎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钱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  <p:sndAc>
      <p:stSnd>
        <p:snd r:embed="rId1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75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珍惜时间  勤奋学习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2680" y="205740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10080" y="3352680"/>
            <a:ext cx="243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时间不变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效率各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14400" y="5410080"/>
            <a:ext cx="990720" cy="838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066680" y="19810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5410080" y="1600200"/>
            <a:ext cx="2210040" cy="145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有弹性</a:t>
            </a:r>
            <a:endParaRPr b="1" lang="en-US" sz="40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pull dir="l"/>
    <p:sndAc>
      <p:stSnd>
        <p:snd r:embed="rId5" name="CAMERA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8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7T11:07:27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995-12-08T18:33:06Z</cp:lastPrinted>
  <dcterms:modified xsi:type="dcterms:W3CDTF">2013-04-13T11:38:42Z</dcterms:modified>
  <cp:revision>23</cp:revision>
  <dc:subject>主题班会课件(分28大类): http://shop62905894.taobao.com</dc:subject>
  <dc:title>主题班会课件(分28大类): http://shop62905894.taobao.com</dc:title>
</cp:coreProperties>
</file>